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tif" ContentType="image/tif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363075" cy="7077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04F3E9-B818-4CF9-BE3E-4583354CB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0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DA8235-A5E2-45C2-8DD4-45DDF0F9CF48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9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52A5B5-5D00-4177-87A2-6DB92F5D1ACC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20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990DF8-6686-4521-BBC6-E431007898BF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913120" y="9216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61080" y="2818440"/>
            <a:ext cx="8712720" cy="4032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21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D66C8A-F199-4812-B50D-8D5FDE7CF7AC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2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9F8DBA-7205-44F6-BF01-CBD6DF6B814C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1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05D47A-CCBC-407F-A307-BA7582BDA86B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633440" cy="3344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D3E71B-3292-4795-A79B-B00917A3242F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3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FB2FA8-0AFC-4A8C-B309-05DEBBC83C66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4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24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812CD8-F752-4BD2-A816-5D6953AC8D80}" type="slidenum">
              <a:rPr b="0" lang="en-CA" sz="2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5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0BFD77-D215-46F9-9563-0ADE1CEA030B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793080" y="4420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583640" y="2818440"/>
            <a:ext cx="7490160" cy="4032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6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9CB2D-2DD9-4DEB-827F-A7EAE169B603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7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53E9D7-2535-45F7-9E8E-501D25B55D04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8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84F357-BCD4-40C5-95DD-EF92AD12ED75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3BC-249A-47CA-87F9-4A8FF38D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436-779D-458D-98B0-7C654DBB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F35-3EBC-4980-9766-3DFD0A5E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DD3-6244-4227-AAFF-2BE2CC60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E3E4-0615-4742-8AD1-2DE8773E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83F1-541D-42EC-9924-08332E2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E8B4-A5C2-44E9-AE67-0B3CD4A0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E8E8-7F66-48D5-BDAD-E6C45F2C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2684-8B4B-4EF8-8115-28138FC9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449A-B82A-473E-8A95-98150C7A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1848-2495-4E0C-AA8D-A3FF8679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6D7-B9BD-4AC1-92C6-515F6CB2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A0FA-1BF1-4D27-A566-1704B91E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EBBA-5B12-4B61-B079-F91E741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FFB7-F4CC-449C-A6F3-61FD4F89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725C-A13F-4016-89A5-57E8D66A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0A71-F7E7-49D7-98FB-418B0461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06B-FEC0-4E82-B8F3-4EE6F008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6E5-F8AA-4026-98B3-061C74B3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FDD-A06E-42EF-91C1-0883A4F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33B-7F71-41F0-B5B0-3E28DA50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DE0-5ECD-4901-855B-800E3F89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72B-1A91-4D82-ACB5-1C636899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1A0-6B41-4D05-9732-5E143B2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C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85F7D2-DA53-4257-B11D-289428CD967D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C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CD6C5F-4AF8-478D-96AF-41A5D0F697EA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7640" y="105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7200" spc="-1" strike="noStrike">
                <a:solidFill>
                  <a:srgbClr val="000000"/>
                </a:solidFill>
                <a:latin typeface="Calibri"/>
              </a:rPr>
              <a:t>Youth Rights in Canad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640" y="3069000"/>
            <a:ext cx="8229240" cy="7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Julia M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OCASI – the Ontario Council of Agencies Serving Immigra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jmais\Documents\Summer Student\Youth Project\Presentation\mental health.jpg"/>
          <p:cNvPicPr/>
          <p:nvPr/>
        </p:nvPicPr>
        <p:blipFill>
          <a:blip r:embed="rId1"/>
          <a:stretch/>
        </p:blipFill>
        <p:spPr>
          <a:xfrm>
            <a:off x="2195640" y="2129040"/>
            <a:ext cx="5184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ll C-31: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Making Canada's Asylum System Faster and Fairer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mmigrant and Refugee Board (IRB) hea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signated Countri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rregular arrival prov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pporting colleagues in th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llaboration between s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th specific settlement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cognizing context and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99640" y="2925000"/>
            <a:ext cx="69123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Questions/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ulia M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mais@ocasi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11640" y="946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395640" y="1340640"/>
            <a:ext cx="82292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CA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jmais\Downloads\ocasi_logo.png"/>
          <p:cNvPicPr/>
          <p:nvPr/>
        </p:nvPicPr>
        <p:blipFill>
          <a:blip r:embed="rId1"/>
          <a:stretch/>
        </p:blipFill>
        <p:spPr>
          <a:xfrm>
            <a:off x="1160640" y="2061000"/>
            <a:ext cx="672804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 Conv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Rights of the Chi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7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vention details basic human rights that children everywhere hav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right to survival; to develop to the fullest; to protection from harmful influences, abuse and exploitation; and to participate fully in family, cultural and social lif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C:\Users\jmais\Documents\Summer Student\Youth Project\Presentation\normal_kids_classroom.jpg"/>
          <p:cNvPicPr/>
          <p:nvPr/>
        </p:nvPicPr>
        <p:blipFill>
          <a:blip r:embed="rId1"/>
          <a:stretch/>
        </p:blipFill>
        <p:spPr>
          <a:xfrm>
            <a:off x="1835640" y="1989000"/>
            <a:ext cx="556740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secondary education financially prohib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ing in grade schoo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E.S.L. graduation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amily Sepa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jmais\Documents\Summer Student\Youth Project\Presentation\normal_Generic_Father_and_Son.jpg"/>
          <p:cNvPicPr/>
          <p:nvPr/>
        </p:nvPicPr>
        <p:blipFill>
          <a:blip r:embed="rId1"/>
          <a:stretch/>
        </p:blipFill>
        <p:spPr>
          <a:xfrm>
            <a:off x="2051640" y="2133000"/>
            <a:ext cx="498060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7640" y="1845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ccompanied minor unable to include parents and siblings in permanent residency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even sponsorship wait times across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of Live-in Caregivers separated from fami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eal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jmais\Documents\Summer Student\Youth Project\Presentation\sick child.jpg"/>
          <p:cNvPicPr/>
          <p:nvPr/>
        </p:nvPicPr>
        <p:blipFill>
          <a:blip r:embed="rId1"/>
          <a:stretch/>
        </p:blipFill>
        <p:spPr>
          <a:xfrm>
            <a:off x="2051640" y="2061000"/>
            <a:ext cx="5067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7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 and physical health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im Federal Health (IFH) c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IP three month wai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  <Words>166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9:27:32Z</dcterms:created>
  <dc:creator>dmontague</dc:creator>
  <dc:description/>
  <dc:language>en-US</dc:language>
  <cp:lastModifiedBy>Lorraine Hudson</cp:lastModifiedBy>
  <dcterms:modified xsi:type="dcterms:W3CDTF">2013-01-03T20:01:4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13</vt:r8>
  </property>
</Properties>
</file>